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478D-C228-4175-BCD6-28E06C26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5D1-F929-487E-86E1-EB62A427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270-EE3F-4CEB-A37F-F498DAF7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306-BA20-403D-BABF-B8E2CFCB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AF0-9D13-4D2B-9927-0B084068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39C-4AE7-48B9-9BA0-EB05C23B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94E-E88B-493A-9443-826B96A4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52B-8F24-4DA3-BB9A-A32B4E70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B39-1ACF-4786-9A19-574C5094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25A4-28D1-48CD-AD55-FF27A436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797-57AB-45BE-9171-FBAA8A55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995-86C1-4EB7-9295-DFC6B9C3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B928-7901-4ADE-A968-6ACAB5224823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ecathlon.pt/PT/artengo-700-o-18283392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3280" cy="7761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A C</a:t>
            </a:r>
            <a:r>
              <a:rPr b="1" lang="pt-PT" sz="1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ÊNC</a:t>
            </a:r>
            <a:r>
              <a:rPr b="1" lang="pt-PT" sz="1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A </a:t>
            </a:r>
            <a:br>
              <a:rPr sz="1400"/>
            </a:b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por quem a faz e por quem a ensina </a:t>
            </a:r>
            <a:br>
              <a:rPr sz="1400"/>
            </a:b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7 de Setembro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CaixaDeTexto 10"/>
          <p:cNvSpPr/>
          <p:nvPr/>
        </p:nvSpPr>
        <p:spPr>
          <a:xfrm>
            <a:off x="4643280" y="0"/>
            <a:ext cx="4500720" cy="767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A C</a:t>
            </a:r>
            <a:r>
              <a:rPr b="1" lang="pt-PT" sz="1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ÊNC</a:t>
            </a:r>
            <a:r>
              <a:rPr b="1" lang="pt-PT" sz="1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por quem a faz e por quem a ens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7 de Setembro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onexão recta 6"/>
          <p:cNvSpPr/>
          <p:nvPr/>
        </p:nvSpPr>
        <p:spPr>
          <a:xfrm>
            <a:off x="4643280" y="38880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onexão recta 8"/>
          <p:cNvSpPr/>
          <p:nvPr/>
        </p:nvSpPr>
        <p:spPr>
          <a:xfrm>
            <a:off x="4500720" y="0"/>
            <a:ext cx="7128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51"/>
          <p:cNvSpPr txBox="1"/>
          <p:nvPr/>
        </p:nvSpPr>
        <p:spPr>
          <a:xfrm>
            <a:off x="250920" y="836640"/>
            <a:ext cx="4033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Vamos jogar raquete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6" name="WordArt 55"/>
          <p:cNvSpPr txBox="1"/>
          <p:nvPr/>
        </p:nvSpPr>
        <p:spPr>
          <a:xfrm>
            <a:off x="1619280" y="1341360"/>
            <a:ext cx="122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E a bola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7" name="Picture 57" descr="my-asset_118040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00" y="1200240"/>
            <a:ext cx="1474920" cy="211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bola%2Bsab%C3%A3o"/>
          <p:cNvPicPr/>
          <p:nvPr/>
        </p:nvPicPr>
        <p:blipFill>
          <a:blip r:embed="rId3"/>
          <a:stretch/>
        </p:blipFill>
        <p:spPr>
          <a:xfrm>
            <a:off x="3059280" y="1484280"/>
            <a:ext cx="1260360" cy="1054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3284640"/>
            <a:ext cx="2950920" cy="32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0,5 L de água morna;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•  2 colheres de sopa de detergente da loiça;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•  1 colher de sopa de glicerina;</a:t>
            </a: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• Usar só 24h depo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ectângulo 21" descr=""/>
          <p:cNvPicPr/>
          <p:nvPr/>
        </p:nvPicPr>
        <p:blipFill>
          <a:blip r:embed="rId4"/>
          <a:stretch/>
        </p:blipFill>
        <p:spPr>
          <a:xfrm>
            <a:off x="1530360" y="2468520"/>
            <a:ext cx="1322280" cy="70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3" descr=""/>
          <p:cNvPicPr/>
          <p:nvPr/>
        </p:nvPicPr>
        <p:blipFill>
          <a:blip r:embed="rId5"/>
          <a:stretch/>
        </p:blipFill>
        <p:spPr>
          <a:xfrm>
            <a:off x="395280" y="4797360"/>
            <a:ext cx="1442880" cy="178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"/>
          <p:cNvPicPr/>
          <p:nvPr/>
        </p:nvPicPr>
        <p:blipFill>
          <a:blip r:embed="rId6"/>
          <a:srcRect l="57582" t="0" r="0" b="13617"/>
          <a:stretch/>
        </p:blipFill>
        <p:spPr>
          <a:xfrm>
            <a:off x="2556000" y="4508640"/>
            <a:ext cx="1795320" cy="1795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0"/>
          <p:cNvSpPr/>
          <p:nvPr/>
        </p:nvSpPr>
        <p:spPr>
          <a:xfrm>
            <a:off x="1908000" y="638172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Isabel Pinto e Paula Fran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0"/>
          <p:cNvSpPr/>
          <p:nvPr/>
        </p:nvSpPr>
        <p:spPr>
          <a:xfrm>
            <a:off x="6551640" y="630864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onstantia"/>
              </a:rPr>
              <a:t>Isabel Pinto e Paula Fran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4859280" y="907920"/>
            <a:ext cx="407664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Faz o teu próprio perfume</a:t>
            </a:r>
            <a:endParaRPr b="1" lang="en-US" sz="50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6732720" y="1484280"/>
            <a:ext cx="15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lfazema</a:t>
            </a:r>
            <a:endParaRPr b="0" lang="en-US" sz="6700" spc="1" strike="noStrike">
              <a:ln w="12600">
                <a:solidFill>
                  <a:srgbClr val="3333cc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6227640" y="2421000"/>
            <a:ext cx="2376720" cy="1800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00"/>
                </a:solidFill>
                <a:latin typeface="Arial"/>
              </a:rPr>
              <a:t>Receita:</a:t>
            </a:r>
            <a:r>
              <a:rPr b="0" lang="pt-P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00"/>
                </a:solidFill>
                <a:latin typeface="Arial"/>
              </a:rPr>
              <a:t>1ºMac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00"/>
                </a:solidFill>
                <a:latin typeface="Arial"/>
              </a:rPr>
              <a:t>2ºExtrair com álc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00"/>
                </a:solidFill>
                <a:latin typeface="Arial"/>
              </a:rPr>
              <a:t>3ºFilt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imagens-de-alfazema"/>
          <p:cNvPicPr/>
          <p:nvPr/>
        </p:nvPicPr>
        <p:blipFill>
          <a:blip r:embed="rId7"/>
          <a:stretch/>
        </p:blipFill>
        <p:spPr>
          <a:xfrm>
            <a:off x="4859280" y="1341360"/>
            <a:ext cx="1090800" cy="302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alfazema"/>
          <p:cNvPicPr/>
          <p:nvPr/>
        </p:nvPicPr>
        <p:blipFill>
          <a:blip r:embed="rId8"/>
          <a:stretch/>
        </p:blipFill>
        <p:spPr>
          <a:xfrm>
            <a:off x="6804000" y="4437000"/>
            <a:ext cx="2117880" cy="1830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alfazema-propriedades"/>
          <p:cNvPicPr/>
          <p:nvPr/>
        </p:nvPicPr>
        <p:blipFill>
          <a:blip r:embed="rId9"/>
          <a:srcRect l="0" t="0" r="0" b="317"/>
          <a:stretch/>
        </p:blipFill>
        <p:spPr>
          <a:xfrm>
            <a:off x="4643280" y="4292640"/>
            <a:ext cx="196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1T13:23:59Z</dcterms:created>
  <dc:creator>Isabel</dc:creator>
  <dc:description/>
  <dc:language>en-US</dc:language>
  <cp:lastModifiedBy>Isabel</cp:lastModifiedBy>
  <dcterms:modified xsi:type="dcterms:W3CDTF">2011-07-26T14:29:57Z</dcterms:modified>
  <cp:revision>6</cp:revision>
  <dc:subject/>
  <dc:title>A CIÊNCIA  por quem a faz e por quem a ensina  7 de Setembro 2011</dc:title>
</cp:coreProperties>
</file>